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CAD3-B962-4FC0-9321-6C3C52AC9A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9CBF-4851-4DB5-A8FC-553F820D5A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61F3-1CF3-418A-85D6-1077AC4D85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1D6A-959B-4C79-B39B-409FC55BFC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A291-9DB6-4079-99F0-B35E0C750E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4DD2-0BFB-4FB5-A27D-6777263858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1B01-03E0-49FF-9DC7-B6C9D110BB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C681-9CFF-4F90-9333-3D13A71DD2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30B-B42C-4542-B839-7C06E098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B98-D054-4922-BB4F-AE76000B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A54-299F-458C-AE43-B0AAE4DA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1E5-25EF-44A2-9CD0-8EAD3B56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2EE8-4B50-41F5-8BD7-1AE45AE4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D21C-FFB5-4F55-9F82-45945B38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E41C-45DA-4944-993D-ECBAECC9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7FC8-B0F9-480F-A778-E2C42A83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ADD9-01CC-4BD5-981D-57D3F704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274E-CCDD-4E57-AFFB-D03D8AD7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36C8-8314-4E0C-B1BD-DDD814CC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283-F158-4A9A-B03D-DF03F924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CA31-C312-49BF-9480-C3C57147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3375-D9F6-46E8-8CCE-58472EE2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A485-17F7-47DA-A85E-3E03D984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4EBA-ABEB-47EC-875B-BFF642D8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413F-FEC6-4E57-A86F-7602C9E9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5475C-B47C-4B84-A093-B4E843D9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3D02-018F-49DA-B9CC-439ACA7B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18E44-CB9F-4592-80B1-5DEB474A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D67B-7077-4D7C-93CE-9ABBE3FF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07F0-257F-435D-8700-EC4758EA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59FA-37D9-4958-906E-A0156A26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F37E-509C-45CC-BD62-D52C52B4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EAEB-B279-41E4-BC87-3B5DE70F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2391E-1936-4A3E-A341-2E413B8C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EE954-251A-4AC3-8001-915AD248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10EA8-7D83-4573-BA79-FEE450DC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1CA63-BC60-4D27-BE47-F0219753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C9813-3BC6-47EB-B41A-9A6416A4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341F5-9705-4E9D-A00F-6D896E4D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B6D36-62AF-43FA-AEB4-9B2BB336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42957-45C0-4597-9E7C-7FEEB9E9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64F-AD62-4411-8E17-0C802597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F9500-3614-4C3C-8790-057E3CD0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F0248-4F5F-4740-950F-7D06226C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57E23-9579-4BB0-A578-833F3088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1EB11-42A9-48D2-84C8-F5DE7526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1F4B0-92F1-49E3-8602-01E1F573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6F554-0719-4DDA-A5FD-C0524E7F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97D2C-8170-4873-B18D-FA170FEF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5E6DE-B36E-4BAE-B8EF-08661A84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F5E9F-93E5-44C9-9A10-47B926B9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09E44-F083-43E0-94CA-96AC4C1A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86B5-1541-4567-9E42-03649D2D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B3A55-1BC1-4F96-A96C-899A0C95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844D0-9B63-435A-8705-294C57D3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04F80-9916-4BED-8312-1E7DE6E8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19DA9-25CF-4874-B437-54BC0904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05730-F019-4EA8-9368-B6C7431F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B8AC2-3829-4FC0-B8D8-54246075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F59AC-AF00-4146-8F74-EE6E5560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DF8E2-7643-4EDD-9CE7-3766153C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8328F-6B2F-4458-BD2D-7392D938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8DE39-DE36-49B0-B3A0-A04AF556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DEE-CCC3-4781-A00E-053E13B2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3F4A2-A52F-41BA-9424-15AC2D70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FD5E6-C0C0-4507-AD7E-CF4B6034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1166B-F3F3-469F-B479-B8EA73AD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9B303-DB34-410F-A8BC-DE4C13F3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4D79E-82BF-4141-907E-D16D4161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4FE84-79B4-484C-AA9C-A0C6A59B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1DA09-0324-4F54-BF34-66389C51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7AEF2-E5F2-4AFD-9D54-41B48C4D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444F6-95BB-4DB3-BB11-CF1351F8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8845E-8738-4251-AD76-678BB380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986-BFA9-4E7F-B9EF-C802D2AB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486DE-3161-4A1A-8D0E-CDD1110E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2F14B-CC89-423B-B91A-CC8C4308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A9315-B3C6-47C6-891D-54588C3B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2EF60-9C79-4F84-8D68-F54D881E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A608A-89D7-4A0C-AAB3-C38FDCF8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5D1D2-E176-483F-B411-A5B1B181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4E68F-B73A-47C1-9CA0-D721CDF3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4882B-318E-4CC9-886C-34A46E8E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5DD4A-D22D-4EA2-A62C-6750B621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C4DC5-6D03-4F74-8DB0-381A5DF8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BB3-EA3B-4BF5-8AA1-A5343E9E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327D3-F79A-4953-AC6B-167A7AC8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56CA6-7F01-47F4-B3C0-C710B778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23D74-F82A-4AF0-A950-43F66015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54577-50B6-4845-B9C9-34C8B9E7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53751-A3A9-4FA0-88B0-0FF9DE8E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8EB7A-0006-43C0-99E8-B3C5DF67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4B83F-F55F-4F65-B008-CE8C98B9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3F3F7-6A8F-4BF7-9B96-73A40499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50E58-1956-4BAF-B811-D8A45CD1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2A18C-A336-4E90-A878-AA5FD2FC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4FF-7202-4EC3-86CA-1970E448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283DB-7C79-41B9-971D-7FF80161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1B7D0-6C97-485A-B6A9-89B3A222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8B467-4323-48C6-8F33-D6A6D238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265F4-05C4-464D-8A62-84B6870C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B45CE-2170-4789-9E21-C53ADE82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D45CA-97ED-4E4F-A649-E1184EBC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74F31-BBDB-4847-AFD6-28AE831E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0870-CECB-4464-9C86-AFF37B3A0E6E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26D3-9E1E-4056-A373-896FE9FBF25A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A5F9-5F84-48CC-ADDF-B3D0E0CB8DE5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B63F-5E99-4466-8B96-6552922ACB44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4DED-3BF5-485B-B5FB-045B803D519B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0E16-A741-4151-904E-944C4421BF04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6E81-8B6F-4766-A777-5617263F0EC6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D512-8F66-4B5B-807D-4F1307DD60B2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google.co.uk/imgres?imgurl=http://www.hurling.be/images/hurl.jpg&amp;imgrefurl=http://www.hurling.be/shop.htm&amp;usg=__-DFg0jlIvZuIhI67I8Fwww089bA=&amp;h=214&amp;w=350&amp;sz=20&amp;hl=en&amp;start=3&amp;zoom=1&amp;tbnid=mD9Mtj1ARg2uxM:&amp;tbnh=73&amp;tbnw=120&amp;ei=Gr8VT9y7Ds2YhQe-_LzaDw&amp;prev=/search?q=hurl&amp;hl=en&amp;sa=N&amp;gbv=2&amp;tbm=isch&amp;itbs=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google.co.uk/imgres?imgurl=http://www.tedmurtagh.ie/image/cache/data/ONeills/prd_2_6355197-500x500.jpg&amp;imgrefurl=http://www.tedmurtagh.ie/index.php?route=product/product&amp;product_id=92&amp;usg=__My_Xp4mYjzdjVU8T7gvvTeI50do=&amp;h=500&amp;w=500&amp;sz=78&amp;hl=en&amp;start=3&amp;zoom=1&amp;tbnid=NKgZRwkUgHaljM:&amp;tbnh=130&amp;tbnw=130&amp;ei=ecMmT8DCH4e7hAeC3bTtBA&amp;prev=/search?q=dublin+jersey+2011&amp;um=1&amp;hl=en&amp;sa=N&amp;rlz=1T4DKUK_en-GBIE293IE294&amp;tbm=isch&amp;um=1&amp;itbs=1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google.co.uk/imgres?imgurl=http://ballymahongaa.com/GAA_Emblem.jpg&amp;imgrefurl=http://ballymahongaa.com/index1.html&amp;usg=__tTKvkcfhWcqvC_VNbsEJXI7Hu8k=&amp;h=314&amp;w=534&amp;sz=11&amp;hl=en&amp;start=2&amp;zoom=1&amp;tbnid=sVhPwuZRS79SdM:&amp;tbnh=78&amp;tbnw=132&amp;ei=Xb4VT-LgMsXLhAfw2L2oAg&amp;prev=/search?q=gaa+logo&amp;hl=en&amp;sa=N&amp;gbv=2&amp;tbm=isch&amp;itbs=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google.co.uk/imgres?imgurl=http://www.sportsfile.com/winshare/watermarked-b/Library/SF710/510582.jpg&amp;imgrefurl=http://www.sportsfile.com/search/hill+16/2/&amp;usg=__qWJdKe6UIhrhIsFqd6NnC0QT9fE=&amp;h=368&amp;w=540&amp;sz=54&amp;hl=en&amp;start=3&amp;zoom=1&amp;tbnid=hcuJ5WHMb64DTM:&amp;tbnh=90&amp;tbnw=132&amp;ei=ncEVT8PKK4qZhQfk1sWWAg&amp;prev=/search?q=dublin+hurlers+with+allianz+cup+in+front+of+hill+16&amp;hl=en&amp;sa=N&amp;gbv=2&amp;tbm=isch&amp;itbs=1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google.co.uk/imgres?imgurl=http://img.rasset.ie/00029266-674.jpg&amp;imgrefurl=http://www.rte.ie/sport/gaa/championship/2009/1015/gal_hurlingallstars2009.html&amp;usg=__p-uGHCAlmx4hNnOdLmoaOebRsEY=&amp;h=506&amp;w=674&amp;sz=86&amp;hl=en&amp;start=3&amp;zoom=1&amp;tbnid=hQgdbS0bVO7gkM:&amp;tbnh=104&amp;tbnw=138&amp;ei=ee4WT9S9Dsa3hQeFraXwAg&amp;prev=/search?q=kilkennys+right+half+back&amp;hl=en&amp;sa=N&amp;gbv=2&amp;tbm=isch&amp;itbs=1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google.co.uk/imgres?imgurl=http://www.sportsfile.com/winshare/watermarked-b/Library/SF517/372375.jpg&amp;imgrefurl=http://www.sportsfile.com/search/henry+shefflin/5/&amp;usg=__Q-5oA6xYTHF2SFUVXD8Tb8tqtyQ=&amp;h=540&amp;w=345&amp;sz=28&amp;hl=en&amp;start=13&amp;zoom=1&amp;tbnid=09kyVTAMchGikM:&amp;tbnh=132&amp;tbnw=84&amp;ei=z8MmT7W-BYu5hAfTg-zUBA&amp;prev=/search?q=henry+shefflin&amp;um=1&amp;hl=en&amp;sa=N&amp;rlz=1T4DKUK_en-GBIE293IE294&amp;tbm=isch&amp;um=1&amp;itbs=1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o.uk/imgres?imgurl=http://www.hoganstand.com/Common/NewGallery/AB4C0051.jpg&amp;imgrefurl=http://www.hoganstand.com/meath/ArticleForm.aspx?ID=138717&amp;usg=__ZcpYZZW1hKrNQKJ_fQklN5PzuKc=&amp;h=280&amp;w=420&amp;sz=133&amp;hl=en&amp;start=8&amp;zoom=1&amp;tbnid=2LHT0UpoZhMmGM:&amp;tbnh=83&amp;tbnw=125&amp;ei=L8QmT8iSAsGphAeRweiPBw&amp;prev=/search?q=st+mary&apos;s+ns+ashbourne+gaa&amp;um=1&amp;hl=en&amp;sa=X&amp;rlz=1T4DKUK_en-GBIE293IE294&amp;tbm=isch&amp;um=1&amp;itbs=1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8053560" cy="2206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ff0000"/>
                </a:solidFill>
                <a:latin typeface="Lucida Sans Unicode"/>
              </a:rPr>
              <a:t>By Conor &amp; Alex… </a:t>
            </a:r>
            <a:endParaRPr b="0" lang="en-US" sz="4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http://t0.gstatic.com/images?q=tbn:ANd9GcTYM05dS3h33uGdtsT4IUh0vTVFaRAQgsECkVQQLocZJmZK98_vVvZj9mU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9000"/>
            <a:ext cx="3807000" cy="3068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b050"/>
                </a:solidFill>
                <a:latin typeface="Lucida Sans Unicode"/>
              </a:rPr>
              <a:t>I always love to see the new Dublin jersey’s coming out at the start of the season 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They  have sponsor’s that pay a lot of money for teams to put their company’s names on the teams jerse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t1.gstatic.com/images?q=tbn:ANd9GcT6bThLMByTbo0rhwA7sVYTjk7C0iAn0-J3fkHVvNt9rkMk9C_abPl3Jiku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3672000"/>
            <a:ext cx="3203640" cy="2709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en you score a point it count’s  as 1 point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ff00"/>
                </a:solidFill>
                <a:latin typeface="Lucida Sans Unicode"/>
              </a:rPr>
              <a:t>When you score a goal it count’s as 3 points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b0f0"/>
                </a:solidFill>
                <a:latin typeface="Lucida Sans Unicode"/>
              </a:rPr>
              <a:t>At under 13’s you play 25 mins a half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9900"/>
                </a:solidFill>
                <a:latin typeface="Lucida Sans Unicode"/>
              </a:rPr>
              <a:t>At senior level you play 35 mins a half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http://t3.gstatic.com/images?q=tbn:ANd9GcRZPC1oe6TghygBUL2Dld9z8PQfQn6z4-fkc7UJGKIAZ-1Fmsc7C_kmyC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4221000"/>
            <a:ext cx="3365640" cy="1989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ffff"/>
                </a:solidFill>
                <a:latin typeface="Lucida Sans Unicode"/>
              </a:rPr>
              <a:t>Dublin hurling has taken a massive step by reaching the All –Ireland senior hurling semi final  against Tipperary on the 14</a:t>
            </a:r>
            <a:r>
              <a:rPr b="0" lang="en-GB" sz="2700" spc="-1" strike="noStrike" baseline="30000">
                <a:solidFill>
                  <a:srgbClr val="00ffff"/>
                </a:solidFill>
                <a:latin typeface="Lucida Sans Unicode"/>
              </a:rPr>
              <a:t>th</a:t>
            </a:r>
            <a:r>
              <a:rPr b="0" lang="en-GB" sz="2700" spc="-1" strike="noStrike">
                <a:solidFill>
                  <a:srgbClr val="00ffff"/>
                </a:solidFill>
                <a:latin typeface="Lucida Sans Unicode"/>
              </a:rPr>
              <a:t> of August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0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ffff"/>
                </a:solidFill>
                <a:latin typeface="Lucida Sans Unicode"/>
              </a:rPr>
              <a:t>They also won the Allianz hurling  league against Kilkenny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t1.gstatic.com/images?q=tbn:ANd9GcQmqmbkpW8Yv0YSQx6_BOddEzQ8SCa-sMmzHbINeVexZOsGbBJchBvzUo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4508640"/>
            <a:ext cx="4319640" cy="234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566720"/>
            <a:ext cx="82296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ommy Walsh is  definitely Conor’s favourite hurling player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29eae"/>
                </a:solidFill>
                <a:latin typeface="Lucida Sans Unicode"/>
              </a:rPr>
              <a:t>He plays right half back for the Kilkenny senior hurling team that won the All-Ireland this ye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He wears the number 5 jersey .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t1.gstatic.com/images?q=tbn:ANd9GcTP1gkqI2JRB_mLtQ8bKV-ZorScDEISKohf5h0eMfPaEnCG6LORLHFrlWh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508640"/>
            <a:ext cx="2467080" cy="2062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me say he’s the greatest hurling player that ever lived 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700" spc="-1" strike="noStrike">
                <a:solidFill>
                  <a:srgbClr val="00b0f0"/>
                </a:solidFill>
                <a:latin typeface="Lucida Sans Unicode"/>
              </a:rPr>
              <a:t>His nickname is king Henry and he truly is the king of hurling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Lucida Sans Unicode"/>
              </a:rPr>
              <a:t>He play’s half forward for the Kilkenny senior hurling squad for quite some time now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He’s also Alex’s favourite hurling player 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http://t2.gstatic.com/images?q=tbn:ANd9GcTHyfk_pyMA0wjuWakQ5YPVIiJvVpbKuxWaZaLgN7FZOWGwWY8pLKmv1C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5640" y="4653000"/>
            <a:ext cx="1881000" cy="183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Lucida Sans Unicode"/>
              </a:rPr>
              <a:t>Conor </a:t>
            </a:r>
            <a:r>
              <a:rPr b="0" lang="en-GB" sz="4400" spc="-1" strike="noStrike">
                <a:solidFill>
                  <a:srgbClr val="ffff00"/>
                </a:solidFill>
                <a:latin typeface="Lucida Sans Unicode"/>
              </a:rPr>
              <a:t>and</a:t>
            </a:r>
            <a:r>
              <a:rPr b="0" lang="en-GB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4400" spc="-1" strike="noStrike">
                <a:solidFill>
                  <a:srgbClr val="00ff00"/>
                </a:solidFill>
                <a:latin typeface="Lucida Sans Unicode"/>
              </a:rPr>
              <a:t>Alex’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Lucida Sans Unicode"/>
              </a:rPr>
              <a:t>PowerPoint !!!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http://t3.gstatic.com/images?q=tbn:ANd9GcQ1qAFqzIQfEg3RLCTpdMaGZUOJ9F-Lqu9H_TkRFsic4-mLVv_OvwKG_Q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3141720"/>
            <a:ext cx="3384360" cy="28796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http://t2.gstatic.com/images?q=tbn:ANd9GcRpmOdklUnDAmarS2P3NsSeObOg0oMNnV18h-YLlIg67nQYSorJeQwiNw"/>
          <p:cNvPicPr/>
          <p:nvPr/>
        </p:nvPicPr>
        <p:blipFill>
          <a:blip r:embed="rId4"/>
          <a:stretch/>
        </p:blipFill>
        <p:spPr>
          <a:xfrm>
            <a:off x="1547640" y="3500280"/>
            <a:ext cx="2519640" cy="2416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8:20:14Z</dcterms:created>
  <dc:creator>Sean O'Farrell</dc:creator>
  <dc:description/>
  <dc:language>en-US</dc:language>
  <cp:lastModifiedBy>gerard.obyrne</cp:lastModifiedBy>
  <dcterms:modified xsi:type="dcterms:W3CDTF">2012-02-02T12:24:55Z</dcterms:modified>
  <cp:revision>17</cp:revision>
  <dc:subject/>
  <dc:title>Hurling !</dc:title>
</cp:coreProperties>
</file>